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A61-321C-469E-AA7B-D277FC04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DD4C-3153-4E37-A19F-92019AEA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E43F-7FD8-493B-BD89-A3521D98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6C29-4F24-4A45-8482-D7CB580B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F6A-8A1A-48BC-A493-6B29D4AF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C5DE-2740-40D1-A090-43B72B39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D6D2-0CD7-4FC1-B7B3-9EE90547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68A-BA98-4B02-9CE3-1C7EC12E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6F8-BCD0-4298-8579-E20A46FB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972E-5147-4176-8982-4FB7A92A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EF2-3FD8-42C0-B4AD-CC273934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B2CE-4A29-4902-9168-A95B6669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7974-655F-4C92-8501-2CC6FB6031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73720"/>
            <a:ext cx="9144000" cy="10796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0941800">
            <a:off x="4975200" y="4149360"/>
            <a:ext cx="4168800" cy="253836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1908000" y="746280"/>
            <a:ext cx="5400720" cy="40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ictorian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n 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ocalit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5384880"/>
            <a:ext cx="424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Lesson 6</a:t>
            </a:r>
            <a:br>
              <a:rPr sz="2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he End of the Victorian 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892080"/>
            <a:ext cx="518652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890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Victorian Leg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1040" y="1366920"/>
            <a:ext cx="55404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en Victoria’s Diamond Jubilee held in 18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en Victoria dies 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n 22nd, 19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usands of mourners turned out to watch her funeral proc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Queen Victoria's Funeral, High Street"/>
          <p:cNvPicPr/>
          <p:nvPr/>
        </p:nvPicPr>
        <p:blipFill>
          <a:blip r:embed="rId1"/>
          <a:srcRect l="0" t="533" r="1333" b="0"/>
          <a:stretch/>
        </p:blipFill>
        <p:spPr>
          <a:xfrm>
            <a:off x="6283440" y="958680"/>
            <a:ext cx="2359080" cy="382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Queen Victoria's Funeral, Long Walk"/>
          <p:cNvPicPr/>
          <p:nvPr/>
        </p:nvPicPr>
        <p:blipFill>
          <a:blip r:embed="rId2"/>
          <a:srcRect l="0" t="20609" r="0" b="0"/>
          <a:stretch/>
        </p:blipFill>
        <p:spPr>
          <a:xfrm>
            <a:off x="6278400" y="4903920"/>
            <a:ext cx="2352960" cy="14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35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85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85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85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892080"/>
            <a:ext cx="518652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890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Victorian Leg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1040" y="1366920"/>
            <a:ext cx="55404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ing monu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tat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ailway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ri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chool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easide p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5772" t="13913" r="25340" b="15382"/>
          <a:stretch/>
        </p:blipFill>
        <p:spPr>
          <a:xfrm>
            <a:off x="4853160" y="1243080"/>
            <a:ext cx="3127320" cy="2881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0" r="0" b="10451"/>
          <a:stretch/>
        </p:blipFill>
        <p:spPr>
          <a:xfrm>
            <a:off x="5365800" y="3967200"/>
            <a:ext cx="2066760" cy="1851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rcRect l="3330" t="18089" r="4501" b="19746"/>
          <a:stretch/>
        </p:blipFill>
        <p:spPr>
          <a:xfrm>
            <a:off x="7243920" y="3573360"/>
            <a:ext cx="1755720" cy="118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5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85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85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35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85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49880" y="3865680"/>
            <a:ext cx="3614760" cy="2409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5440" y="3503520"/>
            <a:ext cx="3313080" cy="248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892080"/>
            <a:ext cx="518652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890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Victorian Leg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1040" y="1366920"/>
            <a:ext cx="674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a look on your way home this afternoon – can you spot anything that might have been Victor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rcRect l="718" t="0" r="1172" b="1197"/>
          <a:stretch/>
        </p:blipFill>
        <p:spPr>
          <a:xfrm>
            <a:off x="3511440" y="3022560"/>
            <a:ext cx="2803680" cy="1693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990880" y="4705200"/>
            <a:ext cx="285732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35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85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35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85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3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85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8:17:29Z</dcterms:created>
  <dc:creator>Rob Halon</dc:creator>
  <dc:description/>
  <dc:language>en-US</dc:language>
  <cp:lastModifiedBy>Information Systems Services</cp:lastModifiedBy>
  <dcterms:modified xsi:type="dcterms:W3CDTF">2004-04-29T13:55:28Z</dcterms:modified>
  <cp:revision>13</cp:revision>
  <dc:subject/>
  <dc:title>Slide 1</dc:title>
</cp:coreProperties>
</file>